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25D2-4689-4089-8411-EB6F3AB0C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EC61-5A13-414F-8262-DDFC81C52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62C8-0AB9-4E9C-A56A-0F422D5E7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456-2EAA-4364-B303-3DE83A6199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C7E-BC79-4BFE-9A99-EBC363406B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2D9-C132-4CD6-8BAB-260D06C43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F663-7070-4E16-BB13-C805E0B42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27D8-561D-48F1-9182-D66BEF487D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234-D9C1-4389-B910-AA4037A43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5F3-B6DB-4C0C-8A05-35A062619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46A-E792-473A-9FC3-6B319EBF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6C5-8697-410B-AADE-13A9017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A39-C35F-4D72-9DD7-323EB5E7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B8D-E790-46D9-8980-40A5D727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7171-CBC8-4402-A69F-CD1D063C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85D-BFE8-4147-916E-7AA6602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9C36-F0D4-4920-A214-1C93308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6AEC-1297-479A-8922-7254A1E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658A-9DBD-4C17-AAF1-27949667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D9EC-E17F-4665-BD76-5792677B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D7B-73D2-4105-8E2E-8E47BB9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C39-42E7-4DE7-9D21-EC2798B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0908-FD5D-437A-8852-9B7BD0A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01EA-02DE-4654-8328-4267649A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356-06EC-44CA-8276-53FBF141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C3C-13AE-4137-9AEF-6E246A7C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A4B-D5FD-45E4-9FA6-95F3177E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4C5-0438-4C80-BBA1-0906D55A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E65-6BB6-467E-9FF2-DBB90DBB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4E4-C229-44AA-AECE-E1390DD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4BF-D627-4E74-9EE8-91ACCE6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E26-8121-41D4-BA50-E771810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F18-67C8-4728-85AE-8087EA4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3FE-C800-449F-99F3-0E3850E5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" name="Picture 10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88E3-D0B0-4451-B1D4-33DEA562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4A3-4A0A-4D3C-AED5-07BD4A9E49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Patterns of Evolution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Convergent and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8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More example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convergent evolution"/>
          <p:cNvPicPr/>
          <p:nvPr/>
        </p:nvPicPr>
        <p:blipFill>
          <a:blip r:embed="rId1"/>
          <a:stretch/>
        </p:blipFill>
        <p:spPr>
          <a:xfrm>
            <a:off x="1295280" y="1523880"/>
            <a:ext cx="6535800" cy="3611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981080" y="54864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ntal Mammals: top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supial Mammals: bottom 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cess by which an ancestral species gives rise to a number of new species that are adapted to different environmental conditions and are less a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occurs when a species colonizes a new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 adaptive rad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 - Darwi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Fi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Brown bears and polar b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diverg"/>
          <p:cNvPicPr/>
          <p:nvPr/>
        </p:nvPicPr>
        <p:blipFill>
          <a:blip r:embed="rId1"/>
          <a:stretch/>
        </p:blipFill>
        <p:spPr>
          <a:xfrm>
            <a:off x="2057400" y="1676520"/>
            <a:ext cx="5186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patterns of evolution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wo species evolve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mutual evolutionary influence between two spe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ecies have a symbiotic relationship (interaction between members of two populati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- Birds and 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n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when DIFFERENT ORGANISMS that live in SIMILAR ENVIRONMENTS become more alike in appearance and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in the environment requires similar adaptations in unrelated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"/>
              </a:rPr>
              <a:t>Con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819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 develop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ALOGOUS 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ame function, but different “construction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- Bird wings/insect 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hark fins/dolphin f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Signs of Divergent Evolution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05" name="Picture 2" descr="http://click4biology.info/c4b/5/images/5.4/homologousllimb.gif"/>
          <p:cNvPicPr/>
          <p:nvPr/>
        </p:nvPicPr>
        <p:blipFill>
          <a:blip r:embed="rId1"/>
          <a:stretch/>
        </p:blipFill>
        <p:spPr>
          <a:xfrm>
            <a:off x="0" y="114300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higheredbcs.wiley.com/legacy/college/levin/0471697435/chap_tut/images/le04_21.jpg"/>
          <p:cNvPicPr/>
          <p:nvPr/>
        </p:nvPicPr>
        <p:blipFill>
          <a:blip r:embed="rId2"/>
          <a:stretch/>
        </p:blipFill>
        <p:spPr>
          <a:xfrm>
            <a:off x="4572000" y="4457880"/>
            <a:ext cx="46674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rbssbiology11ilos.wikispaces.com/file/view/12-13-11-icr-071006-appendix.jpg/316567722/12-13-11-icr-071006-appendix.jpg"/>
          <p:cNvPicPr/>
          <p:nvPr/>
        </p:nvPicPr>
        <p:blipFill>
          <a:blip r:embed="rId3"/>
          <a:stretch/>
        </p:blipFill>
        <p:spPr>
          <a:xfrm>
            <a:off x="5429160" y="990720"/>
            <a:ext cx="3714840" cy="27525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457200" y="56386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OLOGOUS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886360" y="39736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TIGIAL 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Homologous Body Structures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11" name="Picture 4" descr="ch17c3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"/>
              </a:rPr>
              <a:t>During Convergent Evolution Analogous Structures are seen </a:t>
            </a:r>
            <a:endParaRPr b="0" lang="en-US" sz="4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304920" y="1981080"/>
            <a:ext cx="881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ogous structures are structures that have very different genetic origin, but they have very similar function.  Example Wings are a great adaptation, regardless of whether you are a bird, mammal, insect or dinosa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1523880" y="4038480"/>
            <a:ext cx="7010640" cy="2855520"/>
            <a:chOff x="1523880" y="4038480"/>
            <a:chExt cx="7010640" cy="2855520"/>
          </a:xfrm>
        </p:grpSpPr>
        <p:pic>
          <p:nvPicPr>
            <p:cNvPr id="115" name="Picture 2" descr="http://www.biologie.uni-hamburg.de/b-online/library/cat-removed/converg2.gif"/>
            <p:cNvPicPr/>
            <p:nvPr/>
          </p:nvPicPr>
          <p:blipFill>
            <a:blip r:embed="rId1"/>
            <a:stretch/>
          </p:blipFill>
          <p:spPr>
            <a:xfrm>
              <a:off x="1523880" y="4038480"/>
              <a:ext cx="48704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" descr="http://www.hdwallpapersinn.com/wp-content/uploads/2012/10/Blue_Morpho_Butterfly_Wings_by_Enchantedgal_Stock.jpg"/>
            <p:cNvPicPr/>
            <p:nvPr/>
          </p:nvPicPr>
          <p:blipFill>
            <a:blip r:embed="rId2"/>
            <a:stretch/>
          </p:blipFill>
          <p:spPr>
            <a:xfrm>
              <a:off x="6910920" y="4161960"/>
              <a:ext cx="1249560" cy="14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4"/>
            <p:cNvSpPr/>
            <p:nvPr/>
          </p:nvSpPr>
          <p:spPr>
            <a:xfrm>
              <a:off x="6541920" y="649512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ncestral Inse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Up Arrow 5"/>
            <p:cNvSpPr/>
            <p:nvPr/>
          </p:nvSpPr>
          <p:spPr>
            <a:xfrm>
              <a:off x="7279920" y="5744880"/>
              <a:ext cx="235080" cy="829440"/>
            </a:xfrm>
            <a:prstGeom prst="upArrow">
              <a:avLst>
                <a:gd name="adj1" fmla="val 50000"/>
                <a:gd name="adj2" fmla="val 46881"/>
              </a:avLst>
            </a:prstGeom>
            <a:solidFill>
              <a:srgbClr val="ffffff"/>
            </a:solidFill>
            <a:ln w="25560">
              <a:solidFill>
                <a:srgbClr val="000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610480" cy="2286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evolution can occur in competitive relationships, sometimes called evolutiona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894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8898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Evolution through natural selection is not random. 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2743200" y="3265560"/>
            <a:ext cx="6194520" cy="3592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165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selection can have dire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ffects of natural selection add up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gent evolution describes evolution toward different traits in closely related spe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2362320" y="2120760"/>
            <a:ext cx="3581280" cy="47372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9"/>
          <p:cNvGrpSpPr/>
          <p:nvPr/>
        </p:nvGrpSpPr>
        <p:grpSpPr>
          <a:xfrm>
            <a:off x="2899440" y="4038480"/>
            <a:ext cx="6219000" cy="1450080"/>
            <a:chOff x="2899440" y="4038480"/>
            <a:chExt cx="6219000" cy="1450080"/>
          </a:xfrm>
        </p:grpSpPr>
        <p:sp>
          <p:nvSpPr>
            <p:cNvPr id="127" name="Text Box 9"/>
            <p:cNvSpPr/>
            <p:nvPr/>
          </p:nvSpPr>
          <p:spPr>
            <a:xfrm>
              <a:off x="6167520" y="4800600"/>
              <a:ext cx="29509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How do convergent and divergent evolution illustrate the directional nature of natural selection?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2"/>
            <p:cNvSpPr/>
            <p:nvPr/>
          </p:nvSpPr>
          <p:spPr>
            <a:xfrm>
              <a:off x="3631320" y="4738680"/>
              <a:ext cx="866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ncesto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4393080" y="4038480"/>
              <a:ext cx="729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red fo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2899440" y="4038480"/>
              <a:ext cx="665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kit fo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6"/>
            <p:cNvSpPr/>
            <p:nvPr/>
          </p:nvSpPr>
          <p:spPr>
            <a:xfrm>
              <a:off x="3429000" y="4267080"/>
              <a:ext cx="609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H="1">
              <a:off x="4038480" y="4267080"/>
              <a:ext cx="53352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2:05:00Z</dcterms:created>
  <dc:creator>Jack Elliott</dc:creator>
  <dc:description/>
  <dc:language>en-US</dc:language>
  <cp:lastModifiedBy>St. Aloysius</cp:lastModifiedBy>
  <cp:lastPrinted>2006-11-15T05:00:22Z</cp:lastPrinted>
  <dcterms:modified xsi:type="dcterms:W3CDTF">2014-05-12T16:02:47Z</dcterms:modified>
  <cp:revision>19</cp:revision>
  <dc:subject/>
  <dc:title>Patterns of Evolution: Convergent Evolution vs. Divergent Evolution</dc:title>
</cp:coreProperties>
</file>